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CB6-D30D-4A86-8D16-387DC59D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ADF-F5EE-4D34-AB45-4503C769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B6B-C836-48A1-B4AD-3494B32D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59F-10D7-43D3-8D0B-8D13B584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D9C1-E527-4B72-A190-E8E18A56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E29B-D9F8-47A9-AC69-867B52F5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1285-8807-4CE3-B254-48FE1822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0517-1052-4794-9520-3EA75D67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5597-D9D2-4EC7-8C70-8093E35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58A8-7670-46B2-896E-58239A83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190F-C3B9-4DB3-BCC0-219F7394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276-DFB6-4BE0-9943-1687D33C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0ED0-7475-4A5F-B14D-30ED5D25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2364-05CF-424A-A6D9-6F2ABB8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6E21-44AF-4E7B-AEE8-E5CC6556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5109-1332-4016-AD6F-C9986C97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5AC3-A22E-4D9F-87ED-36B1C02F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C0DE-AEF2-4282-8E09-714EEE18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4292-0D01-4117-99B5-CB8D89B6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7CD1-1386-4F6B-8299-8EAC834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E08F-7F46-4F3F-8E64-C03197FA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7A35-776C-4E14-A090-BAFBC11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534-EAF1-4735-BBF3-F7E1BCCE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2AF5-2835-4DB4-8CCE-D1D6B4E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05B8-E8AE-464A-9636-4E3D03A7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3ECC-CC1D-461C-8487-5300C41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867F-5FAB-4988-BAA9-63F8BBC6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16E5-549B-434A-9353-5CBAB89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0414-9E49-41CF-8A62-73DEB979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D20C-AE85-4BC4-8954-5B521A2F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4B45-6933-460B-8E1F-9A6A4D4A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6908-1180-4A58-B8EB-B4B2FAEA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EFF1-EBF6-464A-B380-94BA83B4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2B4-2685-4902-B720-85BD96DA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6D06-23D9-4BFA-8BE6-E61681F9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84F7-9BBB-4C6A-9BE5-F35E5007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FACE-B1C1-498B-81A6-78C210A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89B8-29E1-4EA7-934A-32B8ADD7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6F794-5AAC-430C-85C3-9607C8E5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0392-7B09-4DD3-97E2-CA6AC79F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9055-C10C-48B5-B62D-86A6DA6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FF8D4-6E6E-4A4B-89A8-DDD6F263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2CCF-F21C-4205-B5CF-4BA37F1C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9A6-EC4E-4E52-B8D4-AA65D849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294-7E44-42D0-AEA5-E77C2FEA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331-9F9D-42FD-8B0C-C9548F4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92B-0369-44E0-B79F-03319E75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238-BCA4-49CB-AE2E-7099CD0B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099-804D-4DBA-99F7-50EB5C63FE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2B45-E44E-44D4-BD13-A14ADA3DD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4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0C3C-EEC3-404F-90C8-CC812221FCE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3637-2095-43C9-A727-2D43016AA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7.xml"/><Relationship Id="rId15" Type="http://schemas.openxmlformats.org/officeDocument/2006/relationships/slide" Target="slide28.xml"/><Relationship Id="rId16" Type="http://schemas.openxmlformats.org/officeDocument/2006/relationships/slide" Target="slide29.xml"/><Relationship Id="rId17" Type="http://schemas.openxmlformats.org/officeDocument/2006/relationships/slide" Target="slide30.xml"/><Relationship Id="rId18" Type="http://schemas.openxmlformats.org/officeDocument/2006/relationships/slide" Target="slide31.xml"/><Relationship Id="rId19" Type="http://schemas.openxmlformats.org/officeDocument/2006/relationships/slide" Target="slide32.xml"/><Relationship Id="rId20" Type="http://schemas.openxmlformats.org/officeDocument/2006/relationships/slide" Target="slide33.xml"/><Relationship Id="rId21" Type="http://schemas.openxmlformats.org/officeDocument/2006/relationships/slide" Target="slide34.xml"/><Relationship Id="rId22" Type="http://schemas.openxmlformats.org/officeDocument/2006/relationships/slide" Target="slide35.xml"/><Relationship Id="rId23" Type="http://schemas.openxmlformats.org/officeDocument/2006/relationships/slide" Target="slide36.xml"/><Relationship Id="rId24" Type="http://schemas.openxmlformats.org/officeDocument/2006/relationships/slide" Target="slide37.xml"/><Relationship Id="rId25" Type="http://schemas.openxmlformats.org/officeDocument/2006/relationships/slide" Target="slide38.xml"/><Relationship Id="rId26" Type="http://schemas.openxmlformats.org/officeDocument/2006/relationships/slide" Target="slide39.xml"/><Relationship Id="rId27" Type="http://schemas.openxmlformats.org/officeDocument/2006/relationships/slide" Target="slide40.xml"/><Relationship Id="rId28" Type="http://schemas.openxmlformats.org/officeDocument/2006/relationships/slide" Target="slide41.xml"/><Relationship Id="rId29" Type="http://schemas.openxmlformats.org/officeDocument/2006/relationships/slide" Target="slide42.xml"/><Relationship Id="rId30" Type="http://schemas.openxmlformats.org/officeDocument/2006/relationships/slide" Target="slide43.xml"/><Relationship Id="rId31" Type="http://schemas.openxmlformats.org/officeDocument/2006/relationships/slide" Target="slide44.xml"/><Relationship Id="rId32" Type="http://schemas.openxmlformats.org/officeDocument/2006/relationships/slide" Target="slide45.xml"/><Relationship Id="rId33" Type="http://schemas.openxmlformats.org/officeDocument/2006/relationships/slide" Target="slide46.xml"/><Relationship Id="rId34" Type="http://schemas.openxmlformats.org/officeDocument/2006/relationships/slide" Target="slide47.xml"/><Relationship Id="rId35" Type="http://schemas.openxmlformats.org/officeDocument/2006/relationships/slide" Target="slide48.xml"/><Relationship Id="rId36" Type="http://schemas.openxmlformats.org/officeDocument/2006/relationships/slide" Target="slide49.xml"/><Relationship Id="rId3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j0229389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униципальное общеобразовательное учреждение средняя                                                                                 общеобразовательная школа с. Афанасье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малковского района Липецкой области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л</a:t>
            </a:r>
            <a:r>
              <a:rPr b="1" i="1" lang="ru-RU" sz="4400" spc="-1" strike="noStrike">
                <a:solidFill>
                  <a:srgbClr val="ffcf01"/>
                </a:solidFill>
                <a:latin typeface="Georgia"/>
              </a:rPr>
              <a:t>ш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е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н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ы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й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к</a:t>
            </a:r>
            <a:r>
              <a:rPr b="1" i="1" lang="ru-RU" sz="4400" spc="-1" strike="noStrike">
                <a:solidFill>
                  <a:srgbClr val="eef32d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д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ff3300"/>
                </a:solidFill>
                <a:latin typeface="Georgia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e69"/>
                </a:solidFill>
                <a:latin typeface="Georgia"/>
              </a:rPr>
              <a:t>(Особенности проведе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e69"/>
                </a:solidFill>
                <a:latin typeface="Georgia"/>
              </a:rPr>
              <a:t>Разработка урока по теме: «Человек на Земле»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итель биологии и хим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колзина Ольга Никола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-30492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51814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Елькина А. М., Старцев П. 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ологические карт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Дрофа», 2001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  Касаткина Н. А. (составитель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родоведение 5клас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атериалы к урока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 Волгоград. «Учитель», 2004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 Парфилова Л. Д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есты по природоведению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Экзамен», 2006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4. Плешаков А. А., Сонин Н. 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родоведение -5 класс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Дрофа», 2002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5. Шиндина В. М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оу-игра «Волшебный квадрат»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ля учащихся 3 класс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Педсовет, №12, 2002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59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рок- обобщение по теме: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«ЧЕЛОВЕК НА ЗЕМЛЕ»</a:t>
            </a:r>
            <a:br>
              <a:rPr sz="44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иродоведение – 5 класс</a:t>
            </a:r>
            <a:br>
              <a:rPr sz="40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гра «ВОЛШЕБНЫЙ КВАДРАТ»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676520" y="228600"/>
            <a:ext cx="6553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авайте поиграем!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ЧЕЛОВЕК НА ЗЕМЛ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8213760" y="3079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e6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e6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8e69"/>
                </a:solidFill>
                <a:latin typeface="Tahoma"/>
              </a:rPr>
              <a:t>Как появился человек на Зем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ccff"/>
                </a:solidFill>
                <a:latin typeface="Tahoma"/>
              </a:rPr>
              <a:t>Экология – наука о прир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Географические откры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ef32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32d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eef32d"/>
                </a:solidFill>
                <a:latin typeface="Tahoma"/>
              </a:rPr>
              <a:t>Как человек изменил Земл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расная книг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танет ли Земля пусты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знь под угроз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752480" y="914400"/>
          <a:ext cx="5943600" cy="5334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223" name="AutoShape 60">
            <a:hlinkClick r:id="" action="ppaction://hlinkshowjump?jump=lastslide"/>
          </p:cNvPr>
          <p:cNvSpPr/>
          <p:nvPr/>
        </p:nvSpPr>
        <p:spPr>
          <a:xfrm>
            <a:off x="8077320" y="59436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5375" y="10800"/>
                </a:moveTo>
                <a:lnTo>
                  <a:pt x="4869" y="17806"/>
                </a:lnTo>
                <a:lnTo>
                  <a:pt x="4869" y="3794"/>
                </a:lnTo>
                <a:close/>
              </a:path>
              <a:path fill="darken" w="23752" h="21600">
                <a:moveTo>
                  <a:pt x="17220" y="3794"/>
                </a:moveTo>
                <a:lnTo>
                  <a:pt x="17220" y="17806"/>
                </a:lnTo>
                <a:lnTo>
                  <a:pt x="18882" y="17806"/>
                </a:lnTo>
                <a:lnTo>
                  <a:pt x="18882" y="3794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 - 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Установите соответствие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чезнувший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дкий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ённый от вымирания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Серый ки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Дро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Латиме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AutoShape 4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8" descr="j0285360"/>
          <p:cNvPicPr/>
          <p:nvPr/>
        </p:nvPicPr>
        <p:blipFill>
          <a:blip r:embed="rId1"/>
          <a:stretch/>
        </p:blipFill>
        <p:spPr>
          <a:xfrm>
            <a:off x="2220840" y="228600"/>
            <a:ext cx="4946760" cy="6095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3048120"/>
            <a:ext cx="11658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Что изучает наука экология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6">
            <a:hlinkClick r:id="rId2" action="ppaction://hlinksldjump"/>
          </p:cNvPr>
          <p:cNvSpPr/>
          <p:nvPr/>
        </p:nvSpPr>
        <p:spPr>
          <a:xfrm>
            <a:off x="3049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Красная пустыня"/>
          <p:cNvPicPr/>
          <p:nvPr/>
        </p:nvPicPr>
        <p:blipFill>
          <a:blip r:embed="rId1"/>
          <a:stretch/>
        </p:blipFill>
        <p:spPr>
          <a:xfrm>
            <a:off x="12193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3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опустынива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В каком районе нашей страны оно происходит особенно быстро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4">
            <a:hlinkClick r:id="rId2" action="ppaction://hlinksldjump"/>
          </p:cNvPr>
          <p:cNvSpPr/>
          <p:nvPr/>
        </p:nvSpPr>
        <p:spPr>
          <a:xfrm>
            <a:off x="1522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4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вые люди, по мнению ученых, появились около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 лет назад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0 лет назад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 млн. лет назад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228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81916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ие действия людей открывают дорогу пустыне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049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еждународный союз охраны природы и природных ресурсов учредил Красную книгу в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900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006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966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4">
            <a:hlinkClick r:id="rId1" action="ppaction://hlinksldjump"/>
          </p:cNvPr>
          <p:cNvSpPr/>
          <p:nvPr/>
        </p:nvSpPr>
        <p:spPr>
          <a:xfrm>
            <a:off x="380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л</a:t>
            </a:r>
            <a:r>
              <a:rPr b="1" i="1" lang="ru-RU" sz="4400" spc="-1" strike="noStrike">
                <a:solidFill>
                  <a:srgbClr val="ffcf01"/>
                </a:solidFill>
                <a:latin typeface="Georgia"/>
              </a:rPr>
              <a:t>ш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е</a:t>
            </a: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б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н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ы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й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к</a:t>
            </a:r>
            <a:r>
              <a:rPr b="1" i="1" lang="ru-RU" sz="4400" spc="-1" strike="noStrike">
                <a:solidFill>
                  <a:srgbClr val="eef32d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д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ff3300"/>
                </a:solidFill>
                <a:latin typeface="Georgia"/>
              </a:rPr>
              <a:t>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rcRect l="5860" t="0" r="0" b="0"/>
          <a:stretch/>
        </p:blipFill>
        <p:spPr>
          <a:xfrm>
            <a:off x="3886200" y="2057400"/>
            <a:ext cx="244944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3733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оу – игра, которую удобно применять на уроках обобщения учебных тем, объединяющих семь глав, например при изучении курса «Природоведение 5 класс» (авторы Плешаков А. А., Сонин Н. И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проведении внеклассных занятий, классных ча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13" descr=""/>
          <p:cNvPicPr/>
          <p:nvPr/>
        </p:nvPicPr>
        <p:blipFill>
          <a:blip r:embed="rId2"/>
          <a:srcRect l="13925" t="0" r="0" b="0"/>
          <a:stretch/>
        </p:blipFill>
        <p:spPr>
          <a:xfrm>
            <a:off x="4114800" y="44956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"/>
          <p:cNvPicPr/>
          <p:nvPr/>
        </p:nvPicPr>
        <p:blipFill>
          <a:blip r:embed="rId3"/>
          <a:srcRect l="0" t="0" r="0" b="3844"/>
          <a:stretch/>
        </p:blipFill>
        <p:spPr>
          <a:xfrm>
            <a:off x="6705720" y="457200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"/>
          <p:cNvPicPr/>
          <p:nvPr/>
        </p:nvPicPr>
        <p:blipFill>
          <a:blip r:embed="rId4"/>
          <a:srcRect l="0" t="3848" r="0" b="0"/>
          <a:stretch/>
        </p:blipFill>
        <p:spPr>
          <a:xfrm>
            <a:off x="6629400" y="2057400"/>
            <a:ext cx="2184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7 </a:t>
            </a:r>
            <a:br>
              <a:rPr sz="44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ЧАСТЛИВЫЙ СЛУЧА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очему радиоактивные отходы считаются особенно опасными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utoShape 4">
            <a:hlinkClick r:id="rId1" action="ppaction://hlinksldjump"/>
          </p:cNvPr>
          <p:cNvSpPr/>
          <p:nvPr/>
        </p:nvSpPr>
        <p:spPr>
          <a:xfrm>
            <a:off x="762120" y="5105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ое значение для древних людей имела способность изготавливать орудия труда и охоты, отличавшая их от животных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utoShape 4">
            <a:hlinkClick r:id="rId1" action="ppaction://hlinksldjump"/>
          </p:cNvPr>
          <p:cNvSpPr/>
          <p:nvPr/>
        </p:nvSpPr>
        <p:spPr>
          <a:xfrm>
            <a:off x="457200" y="5257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ЧАСТЛИВЫЙ СЛУЧА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мерика была открыта в 1492 году Джеймсом Куком, так ли это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utoShape 5">
            <a:hlinkClick r:id="rId1" action="ppaction://hlinksldjump"/>
          </p:cNvPr>
          <p:cNvSpPr/>
          <p:nvPr/>
        </p:nvSpPr>
        <p:spPr>
          <a:xfrm>
            <a:off x="3808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j0335112"/>
          <p:cNvPicPr/>
          <p:nvPr/>
        </p:nvPicPr>
        <p:blipFill>
          <a:blip r:embed="rId2"/>
          <a:stretch/>
        </p:blipFill>
        <p:spPr>
          <a:xfrm>
            <a:off x="5257800" y="320040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остановить или замедлить опустынивание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2286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ree"/>
          <p:cNvSpPr/>
          <p:nvPr/>
        </p:nvSpPr>
        <p:spPr>
          <a:xfrm>
            <a:off x="1295280" y="0"/>
            <a:ext cx="6705720" cy="6553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 заре земледелия и скотоводства площадь лесов на Земле составляла 62 млн. к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Сейчас лесами покрыто 36 млн. к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Н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ой площади уничтожены леса за это врем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5">
            <a:hlinkClick r:id="rId1" action="ppaction://hlinksldjump"/>
          </p:cNvPr>
          <p:cNvSpPr/>
          <p:nvPr/>
        </p:nvSpPr>
        <p:spPr>
          <a:xfrm>
            <a:off x="4572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4214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расчетам ученых, пастбища Черных земель в середине 80-х годов прошлого века могли прокормить не более 750 тыс. овец. Но на деле здесь содержали более 1 млн 500 тыс. овец. Дайте приблизительную оценку: во сколько раз были перегружены пастбищ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304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304812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была открыта Австрали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68580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4 -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питомники, зачем они нужны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Галичья гора – это питомник или заповедник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Почему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биологическое разнообразие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AutoShape 4">
            <a:hlinkClick r:id="rId1" action="ppaction://hlinksldjump"/>
          </p:cNvPr>
          <p:cNvSpPr/>
          <p:nvPr/>
        </p:nvSpPr>
        <p:spPr>
          <a:xfrm>
            <a:off x="304920" y="53341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логия изучае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щества и их превращ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роду земной поверх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язи между организмами и окружающей средой, между человеком и природ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бесные т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AutoShape 5">
            <a:hlinkClick r:id="rId1" action="ppaction://hlinksldjump"/>
          </p:cNvPr>
          <p:cNvSpPr/>
          <p:nvPr/>
        </p:nvSpPr>
        <p:spPr>
          <a:xfrm>
            <a:off x="380880" y="5867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аддей Фаддеевич Беллинсгаузен и Михаил Петрович Лазарев в 1920 году открыли…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AutoShape 5">
            <a:hlinkClick r:id="rId1" action="ppaction://hlinksldjump"/>
          </p:cNvPr>
          <p:cNvSpPr/>
          <p:nvPr/>
        </p:nvSpPr>
        <p:spPr>
          <a:xfrm>
            <a:off x="457200" y="5181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5515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ЦЕЛИ  и   ЗАДАЧИ (одни из возможных)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истематизировать   знания  по   теме:  «…». Развивать умение быстро принимать правильное  решение,    сопереживать,   эмоционально    откликаться   на происходящее, использовать знания, работать в коллективе и индивидуально, решать познавательные задачи, повышать уровень экологической культуры. Продолжить формирование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ТОДЫ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епродуктивный, частично поисковый, игра «волшебный квадрат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РИЕМЫ ДЕЯТЕЛЬНОСТИ УЧИТЕЛ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рганизация игры, разъяснение ее правил, подведение итогов по результатам иг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ЛИЧНОСТНАЯ         ЗНАЧИМОСТЬ ИЗУЧАЕМОГ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ЛЯ ШКОЛЬНИ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   Показать    хорошие    знания    и    получить хорошую оценку своей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AutoShape 4">
            <a:hlinkClick r:id="rId1" action="ppaction://hlinksldjump"/>
          </p:cNvPr>
          <p:cNvSpPr/>
          <p:nvPr/>
        </p:nvSpPr>
        <p:spPr>
          <a:xfrm>
            <a:off x="22860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66680" y="584532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ами исчезновения живых организмов являются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е истребл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ничтожение мест обита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е окружающей сред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перечисленно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берите пару: экологическая проблема – причи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в атмосфере углекислого га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грязнение атмосферы выбросами промышленных предприят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использования аэрозолей и освежителей воздух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4">
            <a:hlinkClick r:id="rId1" action="ppaction://hlinksldjump"/>
          </p:cNvPr>
          <p:cNvSpPr/>
          <p:nvPr/>
        </p:nvSpPr>
        <p:spPr>
          <a:xfrm>
            <a:off x="380880" y="5867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к называется книга в которую занесены названия редких и исчезающих видов живых организмов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еле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Чер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рас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родоохран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AutoShape 4">
            <a:hlinkClick r:id="rId1" action="ppaction://hlinksldjump"/>
          </p:cNvPr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ядохимикаты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адиоактивные веще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ещества. Созданные для борьбы с вредителям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добр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екарственные препара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AutoShape 4">
            <a:hlinkClick r:id="rId1" action="ppaction://hlinksldjump"/>
          </p:cNvPr>
          <p:cNvSpPr/>
          <p:nvPr/>
        </p:nvSpPr>
        <p:spPr>
          <a:xfrm>
            <a:off x="609480" y="4724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AutoShape 4">
            <a:hlinkClick r:id="rId1" action="ppaction://hlinksldjump"/>
          </p:cNvPr>
          <p:cNvSpPr/>
          <p:nvPr/>
        </p:nvSpPr>
        <p:spPr>
          <a:xfrm>
            <a:off x="22860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29600" cy="3159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914400" y="5638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овите этих животных, что их объединяе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50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Что такое Красная книга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Picture 5" descr="j0217698"/>
          <p:cNvPicPr/>
          <p:nvPr/>
        </p:nvPicPr>
        <p:blipFill>
          <a:blip r:embed="rId1"/>
          <a:stretch/>
        </p:blipFill>
        <p:spPr>
          <a:xfrm>
            <a:off x="4800600" y="3429000"/>
            <a:ext cx="357660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51920"/>
            <a:ext cx="8001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ЕХОД ХОД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я для размыш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БЫ. Кожа бородавчатая. Они – верные друзья. Ночью выходят жабы на охоту. И сколько вредных насекомых уничтожат! Одна самка камышовой жабы откладывает до 4 тысяч икринок. Вот и представьте какую пользу принос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ГИТЕ ЖАБ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5" descr="06040202"/>
          <p:cNvPicPr/>
          <p:nvPr/>
        </p:nvPicPr>
        <p:blipFill>
          <a:blip r:embed="rId1"/>
          <a:stretch/>
        </p:blipFill>
        <p:spPr>
          <a:xfrm>
            <a:off x="3124080" y="205740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4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живущие сейчас на Земле люди относятся к одному вид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умел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прямоходящ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разумны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стралопит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380880" y="59436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5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способствует опустынивани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ашка степ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резмерный выпас ове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нкий плодородный слой поч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перечислен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вымирании динозавров виноват человек. Так ли эт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шение болот оказывает положительное влияние на окружающую природу. Так ли эт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6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ЧАСТЛИВЫЙ СЛУЧА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берите пару: экологическая проблема – причи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зоновая ды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в атмосфере углекислого г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е атмосферы выбросами промышленных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использования аэрозолей и освежителей воздух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3049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руд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драт с 36 секторами для проведения иг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шочек с номерами (номера в футлярах из-под киндер-сюрприз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домость для подведения ито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тоны-бал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рудование, связанное с темой обобщения (урока, внеклассного мероприятия, классного час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вые домашние животные появились у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а умел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а прямоходяще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андерталь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маньон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30492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81928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берите пару: открытие — путешествен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ым проложил морской путь в Ин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В. Беринг       б) Д. Ливингсто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Васко да Г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2286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ластиковая посуда и полиэтиленовые пакеты не разлагаются в природе, так ка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х очень много производя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сделаны из очень прочн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впитывают во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бактерий, разлагающих их в прир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1522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 каким последствиям приведет разрушение озонового сло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сится температура на Зем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гибнет все жив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ушатся памятники и з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нимется уровень мо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2286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е исчезнуть с лица Земли подобно динозаврам люди должны(продолжите предложен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роться с уничтожением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тановить наступление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ить планету от всех видов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32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берите пару: открыт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утешествен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Первым достиг Северного полю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 Первым достиг Южного полю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Совершил первое кругосветное путешеств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Р. Пири       б) Ф. Магеллан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Р. Амундс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3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S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кое растение занесено в список редких и исчезающих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вкалип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еквой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ед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становите соответств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мятники природ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гий режим охраны, вход человеку воспрещ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ременно охраняемые территории для сохранения определенных вид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большие территории или объекты природы, имеющие особую научную или культурную цен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3049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лительный процесс исторического развития живых организмов в том числе и человека - это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эволюция, палеонтология, эколог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6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берите правильное утвержд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Гринпис» – это международная экологическая организац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ографические открытия никак не повлияли на природу матер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 такое парниковый эффек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ие ещё экологические проблемы вам известн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авила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астники игры по очереди вытягивают из мешочка номера и отвечают на вопросы. Получают жетон за каждый правильный ответ. Если участник не дал правильный ответ, то ответить и заработать жетон может каждый желающ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реди секторов игрового квадрата ес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* счастливый случай (за правильный ответ игрок получает сразу 3 жето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       Б. Т. бермудский треугольник (блиц из 3 вопросов, игрок получает 1 жетон за каждый правильный ответ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S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грок может воспользоваться помощью болельщиков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черный сектор - переход хода (игрок лишается 1 жетон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окончании игры, участники, имеющие жетоны заполняют ведомость для подведения итогов и получают оцен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1752480" y="39625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Зернистость фильма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441936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 могли леса цвес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ады, и ре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живое берег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ы на этом свет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ы природу полюб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ждую травин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птицами давай друж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реги былин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сор, друг, не оставля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лесу на полян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ки ты не засоря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й объявим склянк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неси ежа домо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бочку не трога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кольник! Помни ты всегда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х не так уж много!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П</a:t>
            </a:r>
            <a:r>
              <a:rPr b="1" i="1" lang="ru-RU" sz="4000" spc="-1" strike="noStrike">
                <a:solidFill>
                  <a:srgbClr val="008e69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ff9900"/>
                </a:solidFill>
                <a:latin typeface="Georgia"/>
              </a:rPr>
              <a:t>И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Б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З</a:t>
            </a:r>
            <a:r>
              <a:rPr b="1" i="1" lang="ru-RU" sz="4000" spc="-1" strike="noStrike">
                <a:solidFill>
                  <a:srgbClr val="008e69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У</a:t>
            </a:r>
            <a:r>
              <a:rPr b="1" i="1" lang="ru-RU" sz="40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К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5742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вадрат с 36 секторами разных цве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914400"/>
          <a:ext cx="5943600" cy="5334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676520" y="838080"/>
          <a:ext cx="6095880" cy="5486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ереход 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59"/>
          <p:cNvSpPr/>
          <p:nvPr/>
        </p:nvSpPr>
        <p:spPr>
          <a:xfrm>
            <a:off x="2057400" y="12193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60"/>
          <p:cNvSpPr/>
          <p:nvPr/>
        </p:nvSpPr>
        <p:spPr>
          <a:xfrm>
            <a:off x="3124080" y="29718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61"/>
          <p:cNvSpPr/>
          <p:nvPr/>
        </p:nvSpPr>
        <p:spPr>
          <a:xfrm>
            <a:off x="7162920" y="396252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62"/>
          <p:cNvSpPr/>
          <p:nvPr/>
        </p:nvSpPr>
        <p:spPr>
          <a:xfrm>
            <a:off x="2133720" y="487692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63"/>
          <p:cNvSpPr/>
          <p:nvPr/>
        </p:nvSpPr>
        <p:spPr>
          <a:xfrm>
            <a:off x="3124080" y="57913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214200"/>
            <a:ext cx="72673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ебования к количеству игрок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о игроков кратно тре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тимальное число играющих – 9 или 18, для того, чтобы обеспечить повторную игру участник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жду сериями игр можно включать музыкальные паузы, загадки, ребусы и т. д. (особенно при проведении внеклассных занятий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домость учета балл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3520" y="2666880"/>
          <a:ext cx="8229600" cy="280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милия, имя учащего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ина</cp:lastModifiedBy>
  <dcterms:modified xsi:type="dcterms:W3CDTF">2009-03-15T04:50:0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