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.wmf" ContentType="image/x-wm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FDC-9DBE-44D8-8A51-7F057040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F0B-CACD-42BF-B550-C72731A1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4C3-DF97-441F-B734-895A3BB7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F6D-2D41-4877-8FC8-87602978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1B4D-F1D1-4736-AFF1-6E3E93D7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E0D2-7619-4407-BCA0-1AFC1E09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2076-0E93-4602-825F-919B12F5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11B-43BA-4D4B-8622-33C7DC48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B584-D16D-44E2-B324-69E7A8C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E346-8FA5-4D7E-86DD-251A4826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EC6D-23E6-4762-88A2-2E4F4FE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2C2D-4A35-4811-A02E-37B7F51B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B999-7D09-4499-8350-51909F7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472A-B624-44B6-9600-53E8DE2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5EE1-D63E-4AAD-9AB0-E777EA55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35A3-A5BD-4774-B372-9BCB3463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10AE-DB2A-4C01-BD25-FFCEBD6B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CDED5-FAAA-45BA-BEE5-621E60A3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DFEA-502A-4256-B620-1DCD75C4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D6C0-0710-47D8-BC7F-5AE04E6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EDC54-CD25-4A3E-8FF9-A347F5D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7C84-BEA7-4EB1-9D4E-8033736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A98-B361-4A2B-84FF-C9C3C87E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8890-FBBC-4CAB-B8E3-CA7D97E8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1CC5-79C7-4694-B6A1-7E497583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A0B3-A8CD-41FF-87B9-166E9F08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15C9-85F0-4614-88C5-437111C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820C-985E-45BD-B16A-0C15173F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FAE8-75BF-4D74-8816-A568B812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8F75-00EA-4CDA-BAFB-46D6F71E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03055-BE92-47C8-BB77-BA9070A0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47B62-C267-4B71-A49F-241FEA28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996A-C688-4CB8-9FB7-607692C3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974-181E-41C1-8C57-DBC6DFF4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54D8-9232-4720-B7A3-F1662C03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7B6E-1E55-498F-819E-C4210E9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F3220-CF97-4088-928A-B2BAF14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66670-2EA2-40F6-8E95-2B56E89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0D45-66AE-4529-BD56-A676CED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AEC9F-6003-4F87-BD4E-212E6778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F0C-5920-4E98-9D57-A23404A5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841D-9613-4BFB-BBF9-9AB436DB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C477-F582-4E05-87A3-D1BE669C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C8A-6449-4056-8598-05F8F50C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4FB-1882-47BF-9BE0-4B00FAD8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E32-F01E-4E7D-A5B7-5919662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A5D-DA44-42EB-A39A-23F9A7B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02D-3D86-4DF9-B1B5-5FF5789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B2F-4527-4B4C-A9D7-75D22BBBC7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8BD3-6AB7-40D2-8F55-E802726DB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54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3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4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6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7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9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7286-4EC6-4141-912D-36D65F2E100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9B8A-3A98-4815-96A3-BB95F4F33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2" descr="j0229389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 средняя                                                                                 общеобразовательная школа с. Афанасье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змалковского района Липецкой области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(Особенности провед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e69"/>
                </a:solidFill>
                <a:latin typeface="Georgia"/>
              </a:rPr>
              <a:t>Разработка урока по теме: «Человек на Земле»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читель биологии и хим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дколзина Ольга Никола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-30492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51814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Елькина А. М., Старцев П. 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ологические карт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1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  Касаткина Н. А. (составитель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5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атериалы к урока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 Волгоград. «Учитель», 2004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 Парфилова Л. Д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есты по природоведению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Экзамен», 2006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4. Плешаков А. А., Сонин Н. И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риродоведение -5 класс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М.: «Дрофа»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5. Шиндина В. М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оу-игра «Волшебный квадрат»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для учащихся 3 клас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-Педсовет, №12, 2002г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59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рок- обобщение по теме: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«ЧЕЛОВЕК НА ЗЕМЛЕ»</a:t>
            </a:r>
            <a:br>
              <a:rPr sz="44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природоведение – 5 класс</a:t>
            </a:r>
            <a:br>
              <a:rPr sz="40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гра «ВОЛШЕБНЫЙ КВАДРАТ»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676520" y="228600"/>
            <a:ext cx="6553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авайте поиграем!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ЧЕЛОВЕК НА ЗЕМЛ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8213760" y="3079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e6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8e69"/>
                </a:solidFill>
                <a:latin typeface="Tahoma"/>
              </a:rPr>
              <a:t>Как появился человек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ccff"/>
                </a:solidFill>
                <a:latin typeface="Tahoma"/>
              </a:rPr>
              <a:t>Экология – наука о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Географические откры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ef32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eef32d"/>
                </a:solidFill>
                <a:latin typeface="Tahoma"/>
              </a:rPr>
              <a:t>Как человек изменил Земл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расная книг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aeaea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танет ли Земля пустын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знь под угроз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223" name="AutoShape 60">
            <a:hlinkClick r:id="" action="ppaction://hlinkshowjump?jump=lastslide"/>
          </p:cNvPr>
          <p:cNvSpPr/>
          <p:nvPr/>
        </p:nvSpPr>
        <p:spPr>
          <a:xfrm>
            <a:off x="8077320" y="5943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15375" y="10800"/>
                </a:moveTo>
                <a:lnTo>
                  <a:pt x="4869" y="17806"/>
                </a:lnTo>
                <a:lnTo>
                  <a:pt x="4869" y="3794"/>
                </a:lnTo>
                <a:close/>
              </a:path>
              <a:path fill="darken" w="23752" h="21600">
                <a:moveTo>
                  <a:pt x="17220" y="3794"/>
                </a:moveTo>
                <a:lnTo>
                  <a:pt x="17220" y="17806"/>
                </a:lnTo>
                <a:lnTo>
                  <a:pt x="18882" y="17806"/>
                </a:lnTo>
                <a:lnTo>
                  <a:pt x="18882" y="3794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 - 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Установите соответствие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чезнувш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дкий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асённый от вымирания ви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Серый ки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Дро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Латимер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AutoShape 4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8" descr="j0285360"/>
          <p:cNvPicPr/>
          <p:nvPr/>
        </p:nvPicPr>
        <p:blipFill>
          <a:blip r:embed="rId1"/>
          <a:stretch/>
        </p:blipFill>
        <p:spPr>
          <a:xfrm>
            <a:off x="2220840" y="228600"/>
            <a:ext cx="4946760" cy="6095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240" y="3048120"/>
            <a:ext cx="11658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Что изучает наука экология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6">
            <a:hlinkClick r:id="rId2" action="ppaction://hlinksldjump"/>
          </p:cNvPr>
          <p:cNvSpPr/>
          <p:nvPr/>
        </p:nvSpPr>
        <p:spPr>
          <a:xfrm>
            <a:off x="3049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Красная пустыня"/>
          <p:cNvPicPr/>
          <p:nvPr/>
        </p:nvPicPr>
        <p:blipFill>
          <a:blip r:embed="rId1"/>
          <a:stretch/>
        </p:blipFill>
        <p:spPr>
          <a:xfrm>
            <a:off x="12193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3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опустынивание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В каком районе нашей страны оно происходит особенно быстро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152280" y="5638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4 -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люди, по мнению ученых, появились около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0 лет назад;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 млн. лет назад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2286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8191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ие действия людей открывают дорогу пустыне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04920" y="5791320"/>
            <a:ext cx="761760" cy="7617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ждународный союз охраны природы и природных ресурсов учредил Красную книгу в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00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00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966 году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о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л</a:t>
            </a:r>
            <a:r>
              <a:rPr b="1" i="1" lang="ru-RU" sz="4400" spc="-1" strike="noStrike">
                <a:solidFill>
                  <a:srgbClr val="ffcf01"/>
                </a:solidFill>
                <a:latin typeface="Georgia"/>
              </a:rPr>
              <a:t>ш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е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б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н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ы</a:t>
            </a: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й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Georgia"/>
              </a:rPr>
              <a:t>к</a:t>
            </a:r>
            <a:r>
              <a:rPr b="1" i="1" lang="ru-RU" sz="4400" spc="-1" strike="noStrike">
                <a:solidFill>
                  <a:srgbClr val="eef32d"/>
                </a:solidFill>
                <a:latin typeface="Georgia"/>
              </a:rPr>
              <a:t>в</a:t>
            </a:r>
            <a:r>
              <a:rPr b="1" i="1" lang="ru-RU" sz="4400" spc="-1" strike="noStrike">
                <a:solidFill>
                  <a:srgbClr val="33ccff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д</a:t>
            </a:r>
            <a:r>
              <a:rPr b="1" i="1" lang="ru-RU" sz="44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400" spc="-1" strike="noStrike">
                <a:solidFill>
                  <a:srgbClr val="00e4a8"/>
                </a:solidFill>
                <a:latin typeface="Georgia"/>
              </a:rPr>
              <a:t>а</a:t>
            </a:r>
            <a:r>
              <a:rPr b="1" i="1" lang="ru-RU" sz="4400" spc="-1" strike="noStrike">
                <a:solidFill>
                  <a:srgbClr val="ff3300"/>
                </a:solidFill>
                <a:latin typeface="Georgia"/>
              </a:rPr>
              <a:t>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rcRect l="5860" t="0" r="0" b="0"/>
          <a:stretch/>
        </p:blipFill>
        <p:spPr>
          <a:xfrm>
            <a:off x="3886200" y="2057400"/>
            <a:ext cx="244944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3733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оу – игра, которую удобно применять на уроках обобщения учебных тем, объединяющих семь глав, например при изучении курса «Природоведение 5 класс» (авторы Плешаков А. А., Сонин Н. И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проведении внеклассных занятий, классных ча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13" descr=""/>
          <p:cNvPicPr/>
          <p:nvPr/>
        </p:nvPicPr>
        <p:blipFill>
          <a:blip r:embed="rId2"/>
          <a:srcRect l="13925" t="0" r="0" b="0"/>
          <a:stretch/>
        </p:blipFill>
        <p:spPr>
          <a:xfrm>
            <a:off x="4114800" y="4495680"/>
            <a:ext cx="2133720" cy="19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"/>
          <p:cNvPicPr/>
          <p:nvPr/>
        </p:nvPicPr>
        <p:blipFill>
          <a:blip r:embed="rId3"/>
          <a:srcRect l="0" t="0" r="0" b="3844"/>
          <a:stretch/>
        </p:blipFill>
        <p:spPr>
          <a:xfrm>
            <a:off x="6705720" y="45720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"/>
          <p:cNvPicPr/>
          <p:nvPr/>
        </p:nvPicPr>
        <p:blipFill>
          <a:blip r:embed="rId4"/>
          <a:srcRect l="0" t="3848" r="0" b="0"/>
          <a:stretch/>
        </p:blipFill>
        <p:spPr>
          <a:xfrm>
            <a:off x="6629400" y="2057400"/>
            <a:ext cx="2184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7 </a:t>
            </a:r>
            <a:br>
              <a:rPr sz="44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очему радиоактивные отходы считаются особенно опасными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utoShape 4">
            <a:hlinkClick r:id="rId1" action="ppaction://hlinksldjump"/>
          </p:cNvPr>
          <p:cNvSpPr/>
          <p:nvPr/>
        </p:nvSpPr>
        <p:spPr>
          <a:xfrm>
            <a:off x="762120" y="51055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е значение для древних людей имела способность изготавливать орудия труда и охоты, отличавшая их от животных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utoShape 4">
            <a:hlinkClick r:id="rId1" action="ppaction://hlinksldjump"/>
          </p:cNvPr>
          <p:cNvSpPr/>
          <p:nvPr/>
        </p:nvSpPr>
        <p:spPr>
          <a:xfrm>
            <a:off x="457200" y="5257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СЧАСТЛИВЫЙ СЛУЧА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мерика была открыта в 1492 году Джеймсом Куком, так ли это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utoShape 5">
            <a:hlinkClick r:id="rId1" action="ppaction://hlinksldjump"/>
          </p:cNvPr>
          <p:cNvSpPr/>
          <p:nvPr/>
        </p:nvSpPr>
        <p:spPr>
          <a:xfrm>
            <a:off x="3808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6" descr="j0335112"/>
          <p:cNvPicPr/>
          <p:nvPr/>
        </p:nvPicPr>
        <p:blipFill>
          <a:blip r:embed="rId2"/>
          <a:stretch/>
        </p:blipFill>
        <p:spPr>
          <a:xfrm>
            <a:off x="5257800" y="320040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остановить или замедлить опустыниван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2286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ree"/>
          <p:cNvSpPr/>
          <p:nvPr/>
        </p:nvSpPr>
        <p:spPr>
          <a:xfrm>
            <a:off x="1295280" y="0"/>
            <a:ext cx="6705720" cy="6553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На заре земледелия и скотоводства площадь лесов на Земле составляла 62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Сейчас лесами покрыто 36 млн. к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. Н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ой площади уничтожены леса за это врем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4572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214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расчетам ученых, пастбища Черных земель в середине 80-х годов прошлого века могли прокормить не более 750 тыс. овец. Но на деле здесь содержали более 1 млн 500 тыс. овец. Дайте приблизительную оценку: во сколько раз были перегружены пастбищ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049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ак была открыта Австралия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6858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4 -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питомники, зачем они нужн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Галичья гора – это питомник или заповедник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Почем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биологическое разнообразие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304920" y="533412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12152"/>
                </a:moveTo>
                <a:lnTo>
                  <a:pt x="17806" y="5145"/>
                </a:lnTo>
                <a:lnTo>
                  <a:pt x="17806" y="19158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логия изучает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щества и их превращ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роду земной поверхност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вязи между организмами и окружающей средой, между человеком и природ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бесные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AutoShape 5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аддей Фаддеевич Беллинсгаузен и Михаил Петрович Лазарев в 1920 году открыли…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AutoShape 5">
            <a:hlinkClick r:id="rId1" action="ppaction://hlinksldjump"/>
          </p:cNvPr>
          <p:cNvSpPr/>
          <p:nvPr/>
        </p:nvSpPr>
        <p:spPr>
          <a:xfrm>
            <a:off x="457200" y="5181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5515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ЦЕЛИ  и   ЗАДАЧИ (одни из возможных)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истематизировать   знания  по   теме:  «…». Развивать умение быстро принимать правильное  решение,    сопереживать,   эмоционально    откликаться   на происходящее, использовать знания, работать в коллективе и индивидуально, решать познавательные задачи, повышать уровень экологической культуры. Продолжить формирование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МЕТОДЫ ОБУЧЕНИ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Репродуктивный, частично поисковый, игра «волшебный квадрат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ИЕМЫ ДЕЯТЕЛЬНОСТИ УЧИТЕЛЯ: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рганизация игры, разъяснение ее правил, подведение итогов по результатам иг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ЛИЧНОСТНАЯ         ЗНАЧИМОСТЬ ИЗУЧАЕМОГ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ДЛЯ ШКОЛЬНИ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   Показать    хорошие    знания    и    получить хорошую оценку свое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2286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066680" y="584532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чинами исчезновения живых организмов являются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ямое истреб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ничтожение мест обита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окружающей сре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перечисленн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ислотные дожд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4">
            <a:hlinkClick r:id="rId1" action="ppaction://hlinksldjump"/>
          </p:cNvPr>
          <p:cNvSpPr/>
          <p:nvPr/>
        </p:nvSpPr>
        <p:spPr>
          <a:xfrm>
            <a:off x="380880" y="5867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1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 называется книга в которую занесены названия редких и исчезающих видов живых организмов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еле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Чер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рас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родоохранна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4">
            <a:hlinkClick r:id="rId1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Что такое ядохимикаты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Радиоактивные веществ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Вещества. Созданные для борьбы с вредителя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Удобр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екарственные препар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609480" y="4724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228600" y="60958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159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914400" y="56386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зовите этих животных, что их объединяе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507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Что такое Красная книга</a:t>
            </a: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5" descr="j0217698"/>
          <p:cNvPicPr/>
          <p:nvPr/>
        </p:nvPicPr>
        <p:blipFill>
          <a:blip r:embed="rId1"/>
          <a:stretch/>
        </p:blipFill>
        <p:spPr>
          <a:xfrm>
            <a:off x="4800600" y="3429000"/>
            <a:ext cx="357660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51920"/>
            <a:ext cx="8001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ЕХОД Х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формация для раз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АБЫ. Кожа бородавчатая. Они – верные друзья. Ночью выходят жабы на охоту. И сколько вредных насекомых уничтожат! Одна самка камышовой жабы откладывает до 4 тысяч икринок. Вот и представьте какую пользу принос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ГИТЕ ЖАБ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Picture 5" descr="06040202"/>
          <p:cNvPicPr/>
          <p:nvPr/>
        </p:nvPicPr>
        <p:blipFill>
          <a:blip r:embed="rId1"/>
          <a:stretch/>
        </p:blipFill>
        <p:spPr>
          <a:xfrm>
            <a:off x="3124080" y="205740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4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7724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живущие сейчас на Земле люди относятся к одному вид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умел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прямоходящ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 разумны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стралопит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80880" y="59436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5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способствует опустыниван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ашка степ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резмерный выпас ове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онкий плодородный слой поч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перечислен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мирании динозавров виноват человек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шение болот оказывает положительное влияние на окружающую природу. Так ли эт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6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ЧАСТЛИВЫЙ СЛУЧА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берите пару: экологическая проблема – причи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зоновая ды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в атмосфере углекислого га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грязнение атмосферы выбросами промышленных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использования аэрозолей и освежителей воздух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304920" y="6248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руд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 с 36 секторами для проведения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шочек с номерами (номера в футлярах из-под киндер-сюрприз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домость для подведения итог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тоны-бал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рудование, связанное с темой обобщения (урока, внеклассного мероприятия, классного час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ервые домашние животные появились у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умел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ка прямоходяще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андерталь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маньон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30492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2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8192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— 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м проложил морской путь в Инд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В. Беринг       б) Д. Ливингсто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Васко да Г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стиковая посуда и полиэтиленовые пакеты не разлагаются в природе, так к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х очень много производя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и сделаны из очень прочн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впитывают во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бактерий, разлагающих их в приро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2280" y="60958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каким последствиям приведет разрушение озонового сло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сится температура на Зем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гибнет все живо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ушатся памятники и з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нимется уровень мо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2286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3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бы не исчезнуть с лица Земли подобно динозаврам люди должны(продолжите предложения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хранить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ороться с уничтожением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тановить наступление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щитить планету от всех видов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32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дберите пару: открыт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утешественни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Первым достиг Север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Первым достиг Южного полю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 Совершил первое кругосветное путешеств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Р. Пири       б) Ф. Магеллан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Р. Амундс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3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- S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98108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акое растение занесено в список редких и исчезающих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Эвкалип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еквой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Берез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д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становите соответств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ники прир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огий режим охраны, вход человеку воспрещ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ременно охраняемые территории для сохранения определенных ви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большие территории или объекты природы, имеющие особую научную или культурную ценность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AutoShape 4"/>
          <p:cNvSpPr/>
          <p:nvPr/>
        </p:nvSpPr>
        <p:spPr>
          <a:xfrm>
            <a:off x="3049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e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лительный процесс исторического развития живых организмов в том числе и человека - это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волюция, палеонтология, экология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36 - бли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ыберите правильное утвержд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Гринпис» – это международная экологическая организац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ие открытия никак не повлияли на природу матер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 такое парниковый эффек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ие ещё экологические проблемы вам известны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2286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0912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авила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астники игры по очереди вытягивают из мешочка номера и отвечают на вопросы. Получают жетон за каждый правильный ответ. Если участник не дал правильный ответ, то ответить и заработать жетон может каждый желающ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Среди секторов игрового квадрата ес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* счастливый случай (за правильный ответ игрок получает сразу 3 жетон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       Б. Т. бермудский треугольник (блиц из 3 вопросов, игрок получает 1 жетон за каждый правильный ответ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S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грок может воспользоваться помощью болельщиков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черный сектор - переход хода (игрок лишается 1 жетон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 окончании игры, участники, имеющие жетоны заполняют ведомость для подведения итогов и получают оцен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1752480" y="39625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Зернистость фильма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4419360" cy="59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 могли леса цвес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ады, и ре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е живое берег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на этом свет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ы природу полюб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ждую трав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птицами давай друж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реги былинк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сор, друг, не оставл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лесу на полян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ки ты не засоря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й объявим склянка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неси ежа домо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бочку не трогай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кольник! Помни ты всегда-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не так уж много!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П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С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И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Б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З</a:t>
            </a:r>
            <a:r>
              <a:rPr b="1" i="1" lang="ru-RU" sz="4000" spc="-1" strike="noStrike">
                <a:solidFill>
                  <a:srgbClr val="008e69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Georgia"/>
              </a:rPr>
              <a:t>У</a:t>
            </a:r>
            <a:r>
              <a:rPr b="1" i="1" lang="ru-RU" sz="4000" spc="-1" strike="noStrike">
                <a:solidFill>
                  <a:srgbClr val="ff9900"/>
                </a:solidFill>
                <a:latin typeface="Georgia"/>
              </a:rPr>
              <a:t>Р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33ccff"/>
                </a:solidFill>
                <a:latin typeface="Georgia"/>
              </a:rPr>
              <a:t>К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5742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99308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вадрат с 36 секторами разных цвет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752480" y="914400"/>
          <a:ext cx="5943600" cy="53341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0720"/>
                <a:gridCol w="990720"/>
                <a:gridCol w="9903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f3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e6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1676520" y="838080"/>
          <a:ext cx="6095880" cy="5486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переход 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59"/>
          <p:cNvSpPr/>
          <p:nvPr/>
        </p:nvSpPr>
        <p:spPr>
          <a:xfrm>
            <a:off x="2057400" y="1219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AutoShape 60"/>
          <p:cNvSpPr/>
          <p:nvPr/>
        </p:nvSpPr>
        <p:spPr>
          <a:xfrm>
            <a:off x="3124080" y="297180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61"/>
          <p:cNvSpPr/>
          <p:nvPr/>
        </p:nvSpPr>
        <p:spPr>
          <a:xfrm>
            <a:off x="7162920" y="39625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62"/>
          <p:cNvSpPr/>
          <p:nvPr/>
        </p:nvSpPr>
        <p:spPr>
          <a:xfrm>
            <a:off x="2133720" y="4876920"/>
            <a:ext cx="53316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63"/>
          <p:cNvSpPr/>
          <p:nvPr/>
        </p:nvSpPr>
        <p:spPr>
          <a:xfrm>
            <a:off x="3124080" y="5791320"/>
            <a:ext cx="533520" cy="3808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214200"/>
            <a:ext cx="72673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Требования к количеству игрок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о игроков кратно тре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тимальное число играющих – 9 или 18, для того, чтобы обеспечить повторную игру участник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жду сериями игр можно включать музыкальные паузы, загадки, ребусы и т. д. (особенно при проведении внеклассных занят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домость учета бал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3520" y="2666880"/>
          <a:ext cx="8229600" cy="2808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амилия, имя учащего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бал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ина</cp:lastModifiedBy>
  <dcterms:modified xsi:type="dcterms:W3CDTF">2009-03-15T04:50:01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